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299-4F24-4B38-9AFD-0E3555CF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69C-6A69-42AE-A253-D79E4D15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59E51-64B5-42C8-809E-2D38E62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87E2F-D46C-4B61-A7A5-251990F0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BB557-1DF7-4BE7-A41B-9007F2C9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8B59F-56BB-4D40-AD4D-A0C90FD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A995B-8772-49B6-9773-AE0BC31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2E745-91B8-49B8-87FD-DE9BCA59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283B7-7C6E-4FE8-B91A-0C94C043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1A82B-30EA-41C2-9414-B194A92B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D659E-A0EE-49CC-AF6B-B3B74C48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86560-8396-42AC-9756-BFE44001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C6E-C9FF-4A3B-A433-2AB47198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60907-5FE2-40F2-BFFE-43CDA4D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5F6CE-FB83-4097-AEB1-7470299A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61F34-4F2A-4278-AE5D-E2FB318C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D1920-AB08-4057-AADA-D2944AF7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6C865-36B0-474A-BB1D-D7C3CA81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28FE5-CFFB-43E0-9462-C5B17095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BF0A2-14AE-41D7-B38A-A1D60D44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8A3BE-43A9-4CD7-BDCF-C6C8F990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C1A41-9963-455A-AC33-2B0C2E34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30197-D2E3-4A96-BE42-971F2F27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A10-9579-4087-A3A4-378B3E20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EB5DF-046F-4817-AC92-2A4CC7D1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763C8-FB76-4390-99DC-DAEDBD9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797F2-F19F-4DCE-8C4B-48035337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B86F8-372C-4AE9-B831-8618175D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CA240-CC68-43DD-BD14-129EB73B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BAC32-7F91-4E1B-BA59-BEA0701F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27E31-188B-4425-A4C3-0F13A679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B29E6-0BFB-432F-AFE3-A54F191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4F07A-7476-47F1-9861-68AB5B1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2DEB7-8DE1-426E-8B55-F3C09F2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F9FC-16D2-4A57-A268-48FD8EEF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B4397-5FD2-444A-BD18-C6FCA7EE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559CA-3AB6-4845-B24B-5A5B15CF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49F03-98C5-41C2-B07E-D38BA444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42331-2ACE-4E77-AA0F-AC6F3DAE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93910-7580-4E11-BB77-366204CA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4B8E2-4672-492E-8F53-8A523B28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B6B94-8AF8-4D93-ACD0-9665501F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608C7-5AA7-436D-8498-BC52284D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28187-0D56-4106-AAE4-24BF29E6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34CBB-EC69-40CC-BAE5-053ACBFF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1473-9CCE-4BCE-9B27-457EFECC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3DF96-B0E4-4CA7-916D-CD6BCC77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3AECC-44E7-49B8-8D86-CB8F15A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B46AA-80B0-4767-BD80-06C220AE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05FE8-93DA-4657-BA76-586DBE85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9AA7A-EA2E-424C-B459-D4396E63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AE579-7DD2-4744-A6D6-1FF588E9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43F1C-0669-42DE-A4DD-800F38E1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0A08C-A529-4EFF-81D9-50DC47D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C16DE-ED53-4241-839A-612A4117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6456E-557E-467A-BDD8-5379DC3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0ADF-CC26-4106-B3DE-72D6F611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BB7B2-993C-4DD7-BE22-080A2C6C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14463-04A6-4975-A949-7D9DC025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3BFA1-7794-48F7-9E57-61FE256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A6378-06C4-4901-B93F-4D26E13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1B65E-D5CD-4148-B40F-EAEB0299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501F6-8AA2-4ACA-A037-37D7D731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8EF24-A78B-4A27-B3B2-5255C8F0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6FB16-74F0-46ED-A84F-77801A98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7F785-B348-4AAF-AC20-BEB9EF21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5E7E9-2068-4D91-9EDF-9E5FB824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B901-E89D-46FF-B018-730CF05E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9D67D-096E-4AA2-AEA6-26AE612C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47ABA-1C61-4139-AC46-D9361412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5C3AE-D53A-4021-ADB7-7368A0FB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9EA47-9F30-40A6-B7B7-6147F2D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7480D-BE83-4936-A311-3B563EED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55046-3A1A-4436-87FA-0630D75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19B96-7B1D-4D5C-91AA-01E8C244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7DE9E-0F0D-4EA0-984B-DA234204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9B892-8F7C-4AAE-B41C-6EE61B58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B228A-5DA3-4E09-A5ED-31FDF926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EFF5-7833-4013-8A4A-7E6BCD6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60505-4472-4B94-88CE-AB4D8343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2CFB8-1501-4B46-92DB-8EA70EE9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E19E4-459F-4551-A3E1-3618F86B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E57F2-27DD-4118-A1FC-192E5E31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58B6C-3164-4F79-A7EA-44731C0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BB0B1-9F4B-4248-81C7-0F4ECFF2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D1397-F4C6-49B4-A2F4-AE597440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2FDAC-5C2C-4F41-B01E-FB981789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C2C65-4DA3-4DFA-897E-6CFCF53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A1E3D-4019-4A4D-8FA9-3AD5A56E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1A8A-7DE4-47C8-AB66-D6F3DF4C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04D01-0E18-4101-95AF-8CC485DF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F8B29-53F8-4D6B-8759-56F5F473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8E0475-D3B8-4C56-9661-96DF2298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3475B-346D-4446-B649-2094454B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CFE21-271F-406A-866A-637EE24D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C5338-1672-4E95-BD38-E184EA9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42FDA-363A-43B2-AD21-2E1A845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4CE97-1730-4869-B46E-74C63DBD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22112-306A-433A-BA5E-7BD1E745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18981-FC94-4326-BC69-A296117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B6FD-D05E-441B-87D0-1978D3AE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67687-1B12-4FF5-9738-09B0001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B8647-47A7-4B6B-893A-68CFBAC1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495AB-D7B7-4C21-A131-3947B35E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F40D2-C30D-478D-911A-3B2E4DB9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8FEF45-E0E0-4947-988F-4A8B285F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C0057-E1E2-4090-B65A-996D8686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97F12-6F1C-4BB6-B8A7-EE649DF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729A1-D55E-47B8-A85A-4D54FC0F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373A1-9100-41C3-B9BD-F0E70F08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A9309-CDCB-40EF-A67F-2685FA9D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F91-D4E2-487A-8B39-8E08E797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5C11-D24D-4B6B-BA0E-DFBA960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697D3-E5C7-4AE3-B7D4-B5C1475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8EBEF-CBB0-4CB4-A0DF-C1B99EE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F2D6E-E3FE-4824-963C-092E8D1D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3EBF6-15E2-4A8A-A891-9F5039D0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13664-9853-43C4-8F48-3BDF9DAE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67A618-364C-4F0C-9BC7-D9E3F9EC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D77BF-09A3-4725-8F50-9E48F5D7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AC0F0-E481-44B2-9A27-9CB3EA86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AEC92-D1C4-473D-8D16-E4AE5D02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03AB0-AEC9-4A70-8DBB-97404C6D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2E11-C684-4B24-9224-B55A43D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FEC3B-9125-4818-9F16-A2C0B187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FB86A-B44E-4CDC-A4BB-1AEF979D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E31DF-C1DF-4405-8722-DFAF554C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4F25B-9DB6-4A3E-823A-F59B1DB0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8CD86-3589-4940-A9A4-9929DD05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F3947-4F66-4EE8-90DC-3ED51BC2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97E6D-B086-42B7-B136-75598838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31F759-CFB7-4E39-AE11-50FD3C6C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8D47E-12BB-43C4-86FA-6E52F403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0C228-B4AE-4D5C-80C8-4245B8E2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673A-8CB6-4223-A343-22E2EC09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6F884-D85F-4BAB-BE3B-1372DBB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235E7-3B9D-49D5-A6B1-ED322A26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0BFCB-4F66-40CE-BAF2-943286DF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D5A92-6D3C-4DF2-B464-AA07FD64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A9238-63BE-4D09-B83E-87CE3FB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993171-4F98-4FD4-A214-A50F4E8C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E9172-D331-4FCE-AE1B-91CF8136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B3D2F-77D2-4942-AF9C-953628E5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82DBD-B9C0-493C-9337-5CABBC59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9B6E2-61CD-4DCE-89B6-5EB48355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EE62-AF0B-4506-A885-E7A53816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BB06AD-4ABC-4930-A967-A96B4B2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2FF50-1B42-44BD-B70D-B24D70D1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236A0-627E-4871-B44E-98A171E9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DB836-5143-4C22-8079-85121013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4727E-D419-461D-B399-ACFEF0A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64037-E425-42FD-B530-AB8A919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D7A75-2D9D-4C60-83B3-D9EDC2CD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3F8EE-B66F-4D34-85D1-555EA448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CD55C-CB6D-4289-8426-A7F08E70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9B07C-B451-4FE4-B8F8-B10012F0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29DE-9F85-4C4B-B2B5-7122073F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CE5AD-839E-49CD-A4E4-EC485810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74E31-6A74-4CEC-A696-31588817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F1E416-B634-48A8-87A3-253A4333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9ED5F-F293-4808-AF9E-B6E7B1DB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32C7E-E0EA-4656-9FB1-77F3EF0D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6890A-103F-4460-8014-7BEFF970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1B75B-117A-44C2-AF89-FB9A5F7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CECF7-096E-4157-83C6-EB4DD6F0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03629-9758-4055-ABA9-A9018D7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D764F2-5F9D-4562-AEAF-B23616F8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BEE8-7369-47F2-B880-38CA459C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34957-E357-4FD5-B4B9-2A94D074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EB32E-7CDC-4A64-956B-4CCD957A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B0ABF-B20F-467A-81BB-41E42792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0070A-8909-4B85-819C-6082FB6A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ED4AC4-4229-4923-81AC-6BE7A5AA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B97B2-E674-4493-9F79-9349ACFE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475F85-E450-450B-8D11-BCD4874F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ED8D11-37C6-40F1-B4FC-E8B83DC9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902C1-0FBB-4988-883C-BD4C6194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16AD27-7A3D-48A8-88B3-81FB7BE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A933-4F1B-44D0-A166-B1FFDD9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88FB6B-98FA-46C5-92A0-3E0E064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A0DDBD-519B-48DE-8547-C48B96B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3FF569-1F52-4379-A225-BD26831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0F1FFE-36CB-41E2-87EF-1CBBA590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0EA995-014D-4338-AC86-E7D070C3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564466-BA4A-490E-85EB-B1CD0458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C3D72-A971-4024-8714-66D7E1A1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EFC6FB-7314-45DC-ABDD-D5073735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B1ABF-BD1D-4804-B679-84B04FE8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BD9D2A-8A5E-4B08-9AE5-4677AAAA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0EA1-2BA8-4167-B988-0EA8C9F1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4143B0-57B4-4F67-AB03-F4D24780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12FABB-FC0C-40DA-A36B-DDDF1EE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510B6-E111-4893-8C52-04FDB041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E60D8B-B4DA-4E4B-8AB0-9D2A8FD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3AAFA0-9201-4ECB-A3FE-60FAE3EB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24AA86-AB62-46A6-8CDB-CECA5779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825638-C6DB-4483-BABB-2D0EA0C0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B326-8A88-42ED-9F51-71AC1435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607E-B8D8-4E33-954F-C6864FA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736-E15A-4A18-9C98-0D048ED5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042A-189A-4BEE-B7A3-E7EAE2E3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35F9-8896-4958-BB09-0FE225AA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AB26-D31E-443A-9867-DF1A10E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8937-CBDD-44C1-B623-5559F0D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DE61-AAB8-458F-8BC5-2D9BCFB3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40CA-3289-488F-9BAB-98F4A5B2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CA21-AA6B-4520-80CC-24C8DCD1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E33D2-CDEF-4C26-9279-D8AAAE46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7945-BC36-4001-88E5-A1E4C60C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F5A58-AE1A-4099-99F2-AAFDFDAD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025-0ACE-4858-8A71-FD978715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DFA1-662D-467A-8E1F-77456B4E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57DE-2058-48F8-B238-A4D320F7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B56A-3E76-4750-BCFC-D1B621A7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D816-3C1A-4DD7-9BE3-049CBE3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0036-04A5-4E5F-AF88-841C088B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2327-2B02-4F4A-AA38-9E83828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B705-625F-41C3-87BB-4DC0162E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604F-A66B-4558-ADDF-8029B2CF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2D66-F58E-4BCA-AA1E-FB47C7FC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A76B-99FE-47A9-A58D-F93C140E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8F6-F75D-41C5-A185-B5882BF5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00A7B-1A4C-4450-8EB3-34CE56A6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1CF74-6CD0-4B00-983D-45A0C928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9DEA-6E22-4DC9-8F16-218C8D74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053E-EBA4-475E-93FA-8C96459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59D2C-7C92-4DB6-B550-E86D16F6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E1AF-9019-4136-AD65-586456AF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82CDF-3163-4475-BB48-997B677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23DA-BDCC-4A44-9FBA-422DA9AD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2463-428A-4F53-BEBE-7D4F826D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42AA5-24DB-4AD2-A664-281C02A5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7AE-3F4E-43C4-B334-572FCDC9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6AE0-027C-4EB4-AD3B-9C7CC083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273A6-DFAB-490D-807C-93538140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1E968-E9F0-420D-9AD1-D5274070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C123-6AC4-4F0C-A9AB-748193C5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6D81-5A85-4A2A-A567-33E3A6F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7BA7F-9FCD-4909-B45E-B5F0F10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A93A-9E7B-47E7-962B-AD45D3A6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502B-793D-4E46-A19B-6E63FCD3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240D-3B5A-47D7-A182-B295D2D6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323E8-25A2-49E4-84AE-7B5AB2E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AFA-0C11-459F-9533-2E48B098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DBEE-C264-4DBE-9973-2F1966EC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3A8AD-281F-4A57-9FDC-83D6FD65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BB663-79E2-4223-988F-DE66C93B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BF6FA-26D3-48F4-AEC7-7AC54EAE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F11CE-7525-40E5-AEEB-0EF82266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D6279-823F-4638-9ADB-425882AF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35809-36AA-4889-9F37-966AD8DC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C5A94-2631-4103-9A82-2FB37D3A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DB428-3F6D-4957-9AD3-7E24089B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99C14-7681-46E9-B079-8929C716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F68-DE40-49CD-B198-F4B555D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E9F73-26F6-4B99-A29D-9153332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F5E75-4E25-4A71-90C0-0F223E4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42FE5-6828-4A9F-BAF9-720DD30F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74B2-9FBF-42B3-974A-E02178C4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5F2E-CF2D-4355-9F3F-42FCFB94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38E69-C313-4737-B0CB-2E4C2E61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3C2B9-8C7C-459F-B984-00435800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0D182-D9AC-4ABE-B6C6-FDE8170C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CE178-3D38-4C6A-A590-A7E66180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63AE1-310C-47CA-AACD-A51C5B35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275-E24E-4E79-B258-EA0D604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84DB6-A73A-40D6-B6AE-EDEB07BA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B6176-F54C-4CEC-8AF2-786D49D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E05B-07B8-4F88-B990-98EB876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69F73-EE97-4E0C-A821-F3071B32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03254-6770-4626-B660-43ABFE7A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CC04-D83D-4F31-83E7-55F52993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118E6-B101-4486-A958-390279B4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EB6FA-8E68-4F83-850A-9B34DAB2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CC734-EBAE-4FB0-A593-C71B0EC6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D628B-C6DA-4C11-BD86-12F153D1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E89-8362-4D08-9119-5A47EF42C2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55B4-C510-42A5-9A48-CB154915FB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CABB-421D-43D0-B7E7-0403DF787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3C4-CEBC-4606-AB75-736A74AAD2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BD4-0C23-4767-B5A7-CAFBAD54D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2449-CB0E-44CA-ABB0-CFB8B9702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8194-B53B-4FD9-9351-72E59EC9DF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0126-0DC5-4B2B-BA29-5CBEDF9EE2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DD56-E4DD-42DC-A49E-2502229F9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B84E-FAFA-46B5-ABDF-FCEC6642A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9D0B-6597-40D9-BC75-D3A66EA52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3CAB-654C-480D-B232-6E4BE15665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5CE0-7662-48C3-B29C-49F76B62B8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75E-C30B-415D-92FF-1FE2DBDDF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3862-E2B9-41EA-9AA8-49FAEAFDD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1CF5-1E18-46CD-B13E-EF78BB5F84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39A7-1B5A-4210-A836-787A36784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6961-AFCD-4ACC-BE41-978D2A72A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A72-EB78-4730-8EB2-3813AC4C83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4604-167D-4F53-AAB6-98E70E0033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6EFB-1F87-4BCB-B83E-4A0C06B226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CEBE-85C2-403C-A175-B4195DE2DE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7420-4211-4E65-A468-14A4C3E214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27E1-1002-458C-99E8-206E4CF93F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E6B7-58CC-42DC-959B-3EF94AF589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FA6A-E15A-4989-B57E-1E94B67B2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689B-4195-4BAC-B8E9-165A10D11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3C52-535A-4C4A-8BE7-8DED782D8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BE6-EED6-466D-AEEF-D04D3EF093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330-4435-4B9F-8C4C-59B80DE7B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EFE5-238B-4DAE-BC1A-A57BDA58D1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6201-2D3C-4CD9-A19C-6B20CB056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F00C-4F6B-4BED-975D-A13C6C4C42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06C1-3AB2-4615-B2DD-B2D5ED573A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1C0E-86CC-4C90-8D41-93EE802907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5F8-DA0A-4D42-8DA3-8C68ED5A47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1DEF-7B94-4A26-88E8-07CC1C998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977F-69A1-4FFA-807D-FA886DE708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115F-2546-40ED-BF7F-460A64DFF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06AE-F356-40A0-BB02-679100CE7F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2012-C5A7-474E-B8E9-EA0E5A041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2B71-A766-4881-8F66-E061D4FCC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33560" y="3024360"/>
            <a:ext cx="527688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50840" y="961920"/>
            <a:ext cx="1781280" cy="38124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90360" y="1419120"/>
            <a:ext cx="8961480" cy="4019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429264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642960" y="2028960"/>
            <a:ext cx="7856640" cy="28000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100080" y="966960"/>
            <a:ext cx="8942400" cy="4924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1547640" y="1403280"/>
            <a:ext cx="136872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3473280" y="1811160"/>
            <a:ext cx="115128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2700360" y="222408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4067280" y="2637000"/>
            <a:ext cx="108108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2268360" y="3059280"/>
            <a:ext cx="108144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7"/>
          <a:stretch/>
        </p:blipFill>
        <p:spPr>
          <a:xfrm>
            <a:off x="2987640" y="387036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8"/>
          <a:stretch/>
        </p:blipFill>
        <p:spPr>
          <a:xfrm>
            <a:off x="2771640" y="428292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9"/>
          <a:stretch/>
        </p:blipFill>
        <p:spPr>
          <a:xfrm>
            <a:off x="2195640" y="469260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0"/>
          <a:stretch/>
        </p:blipFill>
        <p:spPr>
          <a:xfrm>
            <a:off x="3132000" y="5103720"/>
            <a:ext cx="1511280" cy="290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1"/>
          <a:stretch/>
        </p:blipFill>
        <p:spPr>
          <a:xfrm>
            <a:off x="2340000" y="5521320"/>
            <a:ext cx="936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576360" y="1171440"/>
            <a:ext cx="7989840" cy="45151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979640" y="1976400"/>
            <a:ext cx="367200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1619280" y="280044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3132000" y="279072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5292720" y="280044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1835280" y="3621240"/>
            <a:ext cx="158436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1476360" y="443700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8"/>
          <a:stretch/>
        </p:blipFill>
        <p:spPr>
          <a:xfrm>
            <a:off x="2987640" y="4437000"/>
            <a:ext cx="2160720" cy="2905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9"/>
          <a:stretch/>
        </p:blipFill>
        <p:spPr>
          <a:xfrm>
            <a:off x="1547640" y="526248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10"/>
          <a:stretch/>
        </p:blipFill>
        <p:spPr>
          <a:xfrm>
            <a:off x="3348000" y="526248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11"/>
          <a:stretch/>
        </p:blipFill>
        <p:spPr>
          <a:xfrm>
            <a:off x="6012000" y="5267160"/>
            <a:ext cx="792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0:5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